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2A9C-B26A-469B-99B8-BC6927898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makura peninsula is south of present day Tok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3DF-1A3B-457E-8CCE-0C8CAB67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D7A2-0CEE-47DA-A213-C1C2BA24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C22-5718-4BB2-891F-43E997F2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0B3-3DCA-47B6-A476-45FBE9F1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4836-CD80-4A19-8C19-ED5DF30E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9370-8627-40A6-BE4B-B7C49703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ACD5-6FAB-4D23-98AD-A7DCBA46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4342-ABA3-4AAD-ACF6-E07248A2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D7B7-BF53-4357-B379-B79BE7CB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325B-D595-4140-9D97-E62320B9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F5F2-2357-4115-8888-28AC3E61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2FA-B4F8-4EA3-B27E-BE30DA82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DC0F-2721-4A74-8C5E-3720873A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A9D8-4401-4FF4-9D1D-643EEE66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8496-2F72-4814-A547-0D549E63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FCF1-A761-45EE-A8AB-21B35BB9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1654-4CBE-4FDF-8E16-DD8A82E9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4342-9367-4FC2-84CF-678AA43C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6B8-F423-453F-B983-94B1657A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C2A-D9B3-424B-898D-C87323D0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D77-7D80-48C1-A8A4-8712C43C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ABD-214D-4849-AA93-45EA5962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946-F9FA-45D7-93C5-93C5F182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1EAE-AE1F-4E98-8583-B54C4A3B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D1B1-4CC0-4C58-A1F0-E8F5B1F1C57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5F28-CF5C-4C58-9611-11348B21DA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cc0000"/>
                </a:solidFill>
                <a:latin typeface="Times New Roman"/>
              </a:rPr>
              <a:t>Chapter 11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051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The Eastern Asian Rimland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Early Japan, Korea, and Vietna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3124080" cy="2104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otoku Taishi (562 -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2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ey, dominant figure in Yamato reg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nt missions to Chang’an (Tang) to learn political institutions to strengthen centraliz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aishi Reform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reates 17 Article Constitution (pg 29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reme ruler and a merit system for selecting and ranking public officials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mited the power of hereditary no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hanced the prestige and authority of the Yamato rul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aika – the great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reation of the Grand Council of Sta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binet of 8 ministr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apan divided into administrative distri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ral villages run by chie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seer of the household regis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gning of the sowing of crops and cult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ce and mulberry tr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ion of off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sition of taxes and forced labou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w Tax System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w tax and law system creates centralized tax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and is now owned by the sta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axes now paid directly to the sta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roduction of Buddhism into the count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ara (710-784) and Heian (794-1185) Period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se periods = a time of decentraliz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 avoid taxes land was given up to high ranking aristocrats who were exempt from paying tax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 – centralized government loses influence and strategic marriages bind strong factions togeth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ural Clans continued to become more powerful especially with the introduction of the samurai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ans become militant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amur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ived life of simplicity and self-sacrifi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llowed Bushido or warrior cod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rict loyalty bonded samurai clas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come a major political and military force in the country side.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3810240" cy="454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809880" y="64008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bookmarked s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Kamakura Shoguna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ivil war ensues as decentralization occu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-Centralization occurs under the leadership from a warrior clan: Minamoto Yoritomo (1142-1199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ts up power base at Kamakura peninsul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hogunate System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entralized government Bakuf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werful Military under leadership of the Shogu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peror exist but is a figure had to the Shogu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ystem will continue into the second half of the 19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C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1023840" cy="1295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543800" y="3886200"/>
            <a:ext cx="12668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ime of Unr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ngol Invasion Late 13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asion tried tw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invasion conquered by Kamikaze “divine wind) Typho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hikaga Period 1333 – 16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entralization rampa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imyo (great names) are ruling creating a loose coalition of families ruling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nin War 1462-147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on of Capital City of Kyo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integration of the Shogun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werful Aristocrats seize large territories and rule independent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rring common until 16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 when centralization retur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conomic and Social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gricultural society based on “wet rice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36007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conomic Con’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mmerce slow to develop in Jap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ji – made up of weavers, carpenters and ironworkers trade though is regulated and limited to clan lead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Yamato state money economy gradually develops although barter is comm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amakura Peri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de and manufacturing develo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pearance of Tri-monthly market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mergence of industry: paper, iron casting, and porcelai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reign trade with Korea and Chin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Japanese Exports: raw materials, paintings, sword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Japanese Imports: silk, porcelain, books, copper cas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pan Land of the Rising S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apan is an Island count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4 main island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kkaido (north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nshu (cent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yushu and Shikoku (south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mperate Climate especially in the Ea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 major cit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kyo, Osaka, and Kyo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hikaga Peri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apid growth of wealth and authority of daimyo families create market tow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ll money econom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ocal manufacturers form gilds – Zaivats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nopolies on product industry – apprentice, journeyman, mas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s rice, samurai sword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ce f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1718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Lif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mmon Peopl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p officials – well to do peasants – responsible for organizing collective labour services and collecting tax grain and so are exempt from tax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as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in – Landless labou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ta – Hereditary slav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286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der Ro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omen and men share importance early on as both are needed to perform tasks to survi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lygamy comm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C law code guaranteed inheritance rights of women, and wives abandoned by husbands were permitted to divorce and remar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usbands could divorce if a male child wasn’t produced, committed adultery, disobeyed parents in law, talked too much, engaged in theft was jealous or had a serious illness!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th the introduction of Buddhism women were subordinate in posi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543800" y="304920"/>
            <a:ext cx="1222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lig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arly belief – worship of nature spirits: Kami  and ancestor spiri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volve into Shinto the state relig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itualistic acts at a shr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ess of purif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ss on the importance and beauty of n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comes a state doctrine linked the divinity of the emperor and Japanese n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16765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ddhism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roduced in 6</a:t>
            </a:r>
            <a:r>
              <a:rPr b="0" lang="en-US" sz="3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 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reate a Shinto/Buddhism combination in a symbiotic relationshi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wo sect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) Pure Land sect – common peop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tion alone could lead to enlightenment and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) Zen Buddhism – compliment traditional belief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terity self-discipline and communion of n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ore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jor influences from Chin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orea is divided into the Three Kingdo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to 7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ings bitter rivalry for influence and territory on the peninsul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 absorb political and cultural influence from Chin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oguryo influenced by Buddhism in the late 4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ingdoms share a tributary relationship with Chin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lla has strong internal cohesion due to location from China will become dominant pow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548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lla Kingdom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ce Chinese from all of Korea except Yalu Riv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cepts tributary status under the T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tempted to use Chinese political model for  centraliz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ddhism rising in popular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inese architecture, art, and written language become popul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civil service examination system or distribution manorial lands to the po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lla king assassinated in 780 country sinks into civil war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19920" y="380880"/>
            <a:ext cx="160020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oryo Dynas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rose in the Nort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dopted Chinese political mod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ivil Service exam system introduced in 958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dustry and commerce slowed develo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griculture premier source of wealt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ing and noble families hold lan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ase people composed of slaves, artisans, and specialized work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ngol Ru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oryo unable to overcome the power of the nobility and the absence of a reliable tax 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oryo becomes a tributary to Kh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found suffering to the Korean people for peasants and artisa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troduction of new ideas and technolog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ith the rise of the Ming in China Koryo collapse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wer now in the hands of Military commander Yi Song-gye Yi dynasty in 139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ograp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untainous – volcanic – creates fertile so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0% total land is suitable for cultivation = 2 crops/yea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ocated on Asian and Pacific tectonic plates – prone to earthquake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lm Clip: Days that Shook the World: Japan 192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etnam – The Smaller Drag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y 200 BCE – a young state began to for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mediately felt pressure by the Qin Dynasty in Chin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ietnamese gain independence after the Qin collap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Century later absorbed into the Han Empi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arted autonomous region under the administration of the local landed aristocrac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inese taxes are oppressive and in 39 CE revolt led by Trung Sisters bring an end to Han ru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0" y="5643720"/>
            <a:ext cx="18288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inese suppress the rebellion and begin to rule directl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marriages between the Sino-Vietnamese elite identirfy with Vietnamese autonom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rt, architecture, literature, philosophy and written language of the Chinese adopt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en as part of Chi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ise of the Great Vi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 the 10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C – Vietnamese strengthened by a sense of ethnic and cultural identity overthrow Chinese rule with the collapse of the Tang Dynas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ai Viet becomes a new force on the South-east Asian mainlan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ai Viet – take on Champa and the Gulf of Siam and Mongols – being successful!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 of guerrilla warfa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inese Legac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fucian model followed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uler styled like Chinese Emper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dopted Chinese court rituals, claimed Mandate of Heave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inese political model adopted including civil service exa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pread of Buddhism, Daoism and Confucianism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019920" y="457200"/>
            <a:ext cx="259056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ig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5333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zanagi and Izanami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– god and goddess their union creates Jap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ive birth to Amaterasu which then becomes the founder of socie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gives credence to the Emperors to c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352680" y="4952880"/>
            <a:ext cx="77652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285732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igins Con’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vidence of humans at least 100,000 yea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omon 10,000 years ago pottery eviden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400 BCE – Korean immigrants Yayoi culture come to Japan along with rice crops will spread to northern islan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629400" y="4038480"/>
            <a:ext cx="190512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5052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ayoi Cul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ttle predominately in Yamato Plain (near the modern cities of Osaka and Kyoto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ibal Society called Uj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uled by hereditary chieftain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tection for portion of harv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pulation divided int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ristocratic cl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jority of Pop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ce far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s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usehold serva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971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ayoi Con’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ighly decentralized societ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lthough, dominant clan in the Yamato region claimed to be descendent of Amaterasu and did contain some measure of pow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ise of the Japanese Sta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 to the potential threat of China, Japan reorganized itself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) Created alliances with remaining Korean St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) Centralized authority to reset a Chinese inva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629400" y="4343400"/>
            <a:ext cx="1969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2:26:18Z</dcterms:created>
  <dc:creator>ripkensa</dc:creator>
  <dc:description/>
  <dc:language>en-US</dc:language>
  <cp:lastModifiedBy>ripkensa</cp:lastModifiedBy>
  <dcterms:modified xsi:type="dcterms:W3CDTF">2009-11-30T16:08:21Z</dcterms:modified>
  <cp:revision>8</cp:revision>
  <dc:subject/>
  <dc:title>Chapter 11</dc:title>
</cp:coreProperties>
</file>